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alarmoff.wav" ContentType="audio/x-wav"/>
  <Override PartName="/ppt/media/lzipup01.wav" ContentType="audio/x-wav"/>
  <Override PartName="/ppt/media/fastcar.wav" ContentType="audio/x-wav"/>
  <Override PartName="/ppt/media/highchime.wav" ContentType="audio/x-wav"/>
  <Override PartName="/ppt/media/jetflyby.wav" ContentType="audio/x-wav"/>
  <Override PartName="/ppt/media/jetflyby2.wav" ContentType="audio/x-wav"/>
  <Override PartName="/ppt/media/bserie06.wav" ContentType="audio/x-wav"/>
  <Override PartName="/ppt/media/zapbig0g.wav" ContentType="audio/x-wav"/>
  <Override PartName="/ppt/media/zipdn102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7FEB-96DA-4EAF-943A-895ED6D7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966-DE36-4B2B-94C4-949B06FF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7449-2F92-4AEA-B1DE-E3EF4AAA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38FD-0407-4947-91B4-1035BF4A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B590-2047-4BD2-B7A2-45FB71AB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7DD4-BE14-4DDD-933A-D7521393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A328-0ACD-46A1-8258-56D3F43F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BAC0-A432-4A28-9045-90FECAF9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54BA-B449-46CF-8ADF-417C7BAF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B6DB-3E36-4729-A304-E2A6A9B0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189F-C3B6-4BC2-9F4A-E1FF238A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1D34-4698-4E65-9F70-1A8B9854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83E4-6F18-4AC7-8EF7-C4C8C70F8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caralarmoff.wav"/><Relationship Id="rId5" Type="http://schemas.openxmlformats.org/officeDocument/2006/relationships/audio" Target="../media/fastcar.wav"/><Relationship Id="rId6" Type="http://schemas.openxmlformats.org/officeDocument/2006/relationships/audio" Target="../media/caralarmoff.wav"/><Relationship Id="rId7" Type="http://schemas.openxmlformats.org/officeDocument/2006/relationships/audio" Target="../media/highchime.wav"/><Relationship Id="rId8" Type="http://schemas.openxmlformats.org/officeDocument/2006/relationships/audio" Target="../media/jetflyby.wav"/><Relationship Id="rId9" Type="http://schemas.openxmlformats.org/officeDocument/2006/relationships/audio" Target="../media/jetflyby.wav"/><Relationship Id="rId10" Type="http://schemas.openxmlformats.org/officeDocument/2006/relationships/audio" Target="../media/jetflyby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.wav"/><Relationship Id="rId14" Type="http://schemas.openxmlformats.org/officeDocument/2006/relationships/audio" Target="../media/jetflyby.wav"/><Relationship Id="rId15" Type="http://schemas.openxmlformats.org/officeDocument/2006/relationships/audio" Target="../media/zapbig0g.wav"/><Relationship Id="rId16" Type="http://schemas.openxmlformats.org/officeDocument/2006/relationships/audio" Target="../media/fastcar.wav"/><Relationship Id="rId17" Type="http://schemas.openxmlformats.org/officeDocument/2006/relationships/audio" Target="../media/zapbig0g.wav"/><Relationship Id="rId18" Type="http://schemas.openxmlformats.org/officeDocument/2006/relationships/audio" Target="../media/bserie06.wav"/><Relationship Id="rId19" Type="http://schemas.openxmlformats.org/officeDocument/2006/relationships/audio" Target="../media/zipdn102.wav"/><Relationship Id="rId20" Type="http://schemas.openxmlformats.org/officeDocument/2006/relationships/audio" Target="../media/zipdn102.wav"/><Relationship Id="rId21" Type="http://schemas.openxmlformats.org/officeDocument/2006/relationships/audio" Target="../media/bserie06.wav"/><Relationship Id="rId22" Type="http://schemas.openxmlformats.org/officeDocument/2006/relationships/audio" Target="../media/bserie06.wav"/><Relationship Id="rId23" Type="http://schemas.openxmlformats.org/officeDocument/2006/relationships/audio" Target="../media/caralarmoff.wav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caralarmoff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caralarmoff.wav"/><Relationship Id="rId6" Type="http://schemas.openxmlformats.org/officeDocument/2006/relationships/audio" Target="../media/zapbig0g.wav"/><Relationship Id="rId7" Type="http://schemas.openxmlformats.org/officeDocument/2006/relationships/audio" Target="../media/fastcar.wav"/><Relationship Id="rId8" Type="http://schemas.openxmlformats.org/officeDocument/2006/relationships/audio" Target="../media/zapbig0g.wav"/><Relationship Id="rId9" Type="http://schemas.openxmlformats.org/officeDocument/2006/relationships/audio" Target="../media/bserie06.wav"/><Relationship Id="rId10" Type="http://schemas.openxmlformats.org/officeDocument/2006/relationships/audio" Target="../media/zipdn102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caralarmoff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caralarmoff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caralarmoff.wav"/><Relationship Id="rId6" Type="http://schemas.openxmlformats.org/officeDocument/2006/relationships/audio" Target="../media/zapbig0g.wav"/><Relationship Id="rId7" Type="http://schemas.openxmlformats.org/officeDocument/2006/relationships/audio" Target="../media/fastcar.wav"/><Relationship Id="rId8" Type="http://schemas.openxmlformats.org/officeDocument/2006/relationships/audio" Target="../media/zapbig0g.wav"/><Relationship Id="rId9" Type="http://schemas.openxmlformats.org/officeDocument/2006/relationships/audio" Target="../media/bserie06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caralarmoff.wav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caralarmoff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caralarmoff.wav"/><Relationship Id="rId6" Type="http://schemas.openxmlformats.org/officeDocument/2006/relationships/audio" Target="../media/zapbig0g.wav"/><Relationship Id="rId7" Type="http://schemas.openxmlformats.org/officeDocument/2006/relationships/audio" Target="../media/fastcar.wav"/><Relationship Id="rId8" Type="http://schemas.openxmlformats.org/officeDocument/2006/relationships/audio" Target="../media/zapbig0g.wav"/><Relationship Id="rId9" Type="http://schemas.openxmlformats.org/officeDocument/2006/relationships/audio" Target="../media/bserie06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caralarmoff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3300"/>
                </a:solidFill>
                <a:latin typeface="Times New Roman"/>
              </a:rPr>
              <a:t>Percent of Increase or Decreas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6120" y="1592280"/>
            <a:ext cx="36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Percent of Cha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20960" y="150660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06960" y="1328760"/>
            <a:ext cx="36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Amount of Cha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54480" y="1855800"/>
            <a:ext cx="35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84640" y="1873080"/>
            <a:ext cx="36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Original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452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opulation of a town went from 10,000 to  12,000. Find the percent of chan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00480" y="1320840"/>
            <a:ext cx="5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89520" y="1328760"/>
            <a:ext cx="6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46720" y="1322280"/>
            <a:ext cx="4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174760" y="3675240"/>
                <a:ext cx="415476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432480" y="3624120"/>
                <a:ext cx="21240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4352760" y="1895400"/>
            <a:ext cx="4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70600" y="1874880"/>
            <a:ext cx="4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143080" y="4324320"/>
                <a:ext cx="1846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916680" y="4330800"/>
            <a:ext cx="1581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765840" y="4346640"/>
                <a:ext cx="1846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53960" y="5045040"/>
                <a:ext cx="1690920" cy="15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133720" y="5076720"/>
                <a:ext cx="1449360" cy="14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1785960" y="5094360"/>
            <a:ext cx="187200" cy="130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03360" y="5116680"/>
            <a:ext cx="187200" cy="130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613320" y="5506920"/>
                <a:ext cx="1611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5289480" y="5532480"/>
            <a:ext cx="20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Georgia"/>
              </a:rPr>
              <a:t>In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.wav"/>
                                        </p:tgtEl>
                                      </p:cMediaNode>
                                    </p:audio>
                                    <p:animMotion origin="layout" path="M 0 2.19653E-006 L -0.40486 0.35699 E">
                                      <p:cBhvr>
                                        <p:cTn id="6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.wav"/>
                                        </p:tgtEl>
                                      </p:cMediaNode>
                                    </p:audio>
                                    <p:animMotion origin="layout" path="M -2.22222E-006 -3.87283E-006 L -0.53975 0.35723 E">
                                      <p:cBhvr>
                                        <p:cTn id="62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.wav"/>
                                        </p:tgtEl>
                                      </p:cMediaNode>
                                    </p:audio>
                                    <p:animMotion origin="layout" path="M -2.22222E-006 9.82659E-007 L -0.53802 0.35931 E">
                                      <p:cBhvr>
                                        <p:cTn id="6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.wav"/>
                                        </p:tgtEl>
                                      </p:cMediaNode>
                                    </p:audio>
                                    <p:animMotion origin="layout" path="M -4.16667E-006 2.77457E-006 L -0.40954 0.37202 E">
                                      <p:cBhvr>
                                        <p:cTn id="8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.wav"/>
                                        </p:tgtEl>
                                      </p:cMediaNode>
                                    </p:audio>
                                    <p:animMotion origin="layout" path="M -3.88889E-006 -1.44509E-006 L -0.53802 0.37642 E">
                                      <p:cBhvr>
                                        <p:cTn id="85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621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3300"/>
                </a:solidFill>
                <a:latin typeface="Times New Roman"/>
              </a:rPr>
              <a:t>Percent of Increase or Decreas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6120" y="1592280"/>
            <a:ext cx="36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Percent of Cha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20960" y="150660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06960" y="1328760"/>
            <a:ext cx="36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Amount of Cha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54480" y="1855800"/>
            <a:ext cx="35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84640" y="1873080"/>
            <a:ext cx="36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Original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279520"/>
            <a:ext cx="9144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cost of gasoline for the Lopez family car last year was $1,000. This year, the family bought a new car and the cost is $950. Find the percent of chang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714760" y="3776760"/>
                <a:ext cx="304632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176880" y="3757680"/>
                <a:ext cx="19386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170160" y="4425840"/>
                <a:ext cx="14763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6945480" y="4417920"/>
            <a:ext cx="142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935760" y="4448160"/>
                <a:ext cx="14781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600120" y="5146560"/>
                <a:ext cx="136836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119320" y="5178600"/>
                <a:ext cx="1449360" cy="14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1379520" y="5238720"/>
            <a:ext cx="449280" cy="1263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738600" y="5608800"/>
                <a:ext cx="13302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5275440" y="5634000"/>
            <a:ext cx="23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Georgia"/>
              </a:rPr>
              <a:t>De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3680" y="3862440"/>
            <a:ext cx="13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A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7840" y="4492800"/>
            <a:ext cx="11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O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621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3300"/>
                </a:solidFill>
                <a:latin typeface="Times New Roman"/>
              </a:rPr>
              <a:t>Percent of Increase or Decreas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6120" y="1592280"/>
            <a:ext cx="36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Percent of Cha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20960" y="150660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06960" y="1328760"/>
            <a:ext cx="36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Amount of Cha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54480" y="1855800"/>
            <a:ext cx="35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84640" y="1873080"/>
            <a:ext cx="36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Original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7952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375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 number changed from 12 to 15. Find the percent of change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290760" y="3822840"/>
                <a:ext cx="189252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43760" y="3743280"/>
                <a:ext cx="156816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538440" y="4494240"/>
                <a:ext cx="738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6945480" y="44179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130880" y="4502160"/>
                <a:ext cx="7383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922320" y="5207040"/>
                <a:ext cx="72396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324160" y="5197320"/>
                <a:ext cx="1127160" cy="141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463680" y="3862440"/>
            <a:ext cx="13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A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7840" y="4492800"/>
            <a:ext cx="11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O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566720" y="5297400"/>
                <a:ext cx="7635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571760" y="5986440"/>
                <a:ext cx="7650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862360" y="6004080"/>
                <a:ext cx="44280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294000" y="5219640"/>
                <a:ext cx="140832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730680" y="6005520"/>
                <a:ext cx="9270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714920" y="5651640"/>
                <a:ext cx="16128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6291360" y="5676840"/>
            <a:ext cx="23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Georgia"/>
              </a:rPr>
              <a:t>In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1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21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3300"/>
                </a:solidFill>
                <a:latin typeface="Times New Roman"/>
              </a:rPr>
              <a:t>Percent of Increase or Decreas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6120" y="1592280"/>
            <a:ext cx="36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Percent of Cha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20960" y="150660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06960" y="1328760"/>
            <a:ext cx="36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Amount of Cha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54480" y="1855800"/>
            <a:ext cx="35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84640" y="1873080"/>
            <a:ext cx="36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Original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27952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375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 number changed from 125 to 100. Find the percent of change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968560" y="3822840"/>
                <a:ext cx="253836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959440" y="3743280"/>
                <a:ext cx="19368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376440" y="4471920"/>
                <a:ext cx="10623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6945480" y="44179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969240" y="4479840"/>
                <a:ext cx="10620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49360" y="5202360"/>
                <a:ext cx="1004760" cy="14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484360" y="5183280"/>
                <a:ext cx="112716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463680" y="3862440"/>
            <a:ext cx="13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A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7840" y="4492800"/>
            <a:ext cx="11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O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422360" y="5264280"/>
                <a:ext cx="11415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27040" y="5952960"/>
                <a:ext cx="1143000" cy="6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041640" y="5986440"/>
                <a:ext cx="4032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83000" y="5191200"/>
                <a:ext cx="140796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919680" y="5977080"/>
                <a:ext cx="9270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903920" y="5622840"/>
                <a:ext cx="16128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6480000" y="5648400"/>
            <a:ext cx="23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Georgia"/>
              </a:rPr>
              <a:t>De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37952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63, 10 – 10 #1-8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9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 SKELTON</cp:lastModifiedBy>
  <dcterms:modified xsi:type="dcterms:W3CDTF">2005-03-13T14:12:45Z</dcterms:modified>
  <cp:revision>104</cp:revision>
  <dc:subject/>
  <dc:title>Slide 1</dc:title>
</cp:coreProperties>
</file>